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A15-0415-4DC1-9B64-F5A210F5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92C-B7B4-483F-83AD-43D2FA5D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335-BF4E-4C3B-BCE7-D66CF394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60E-CA21-4C97-AE52-1DD74650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3F90-2C6B-49A1-9689-0E50FDD8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EFB-088C-438E-8877-9870F3E4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34DE-574C-4DC5-B27F-1CB405D2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638A-E7DA-433C-8A3C-37031A4A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B92E-1691-47AD-A8F8-5C15DD7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2DDF-E427-4453-A1C0-9D23307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C52-49CB-426C-98D8-E3CB494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27B-43B1-4EBE-B724-8E01CFE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B0E2-23E8-47E1-A23E-60AFD81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58C9-A5AB-4B86-845C-FD1E72F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DED0-481F-4C5D-9EFC-C5E6A4F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8DB-CBBC-4364-A82C-928011B3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BD35-6415-42A3-A2D6-E06F6EE7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9298-9CD9-4E31-8B08-05A3EF55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6239-39AE-420F-8193-379C7E90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02B7-8CF8-433B-937D-7EF6073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1F9F-5F14-4F47-A06D-BE51EF81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B056-4B4A-413D-BD22-99E53F99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B26-FB7F-4DDA-9425-4F9D9E3B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8387-9B6D-4287-924B-5034AD4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97B3-7926-4EE7-8656-D7A1842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314A-5383-4DA2-89AB-A9B0509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3A06-C7B7-4934-98F3-360FC2F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C0FB-3F9C-4951-82B2-A3A9FEE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1076-DB23-4C73-B09C-5EA66872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77B8A-4D33-4A8E-89B6-B89D80EE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940-7EF8-46FD-9506-7CD2464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FE7-EE79-4319-8826-7204CCE4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CA6-563C-466B-AFC5-D836D100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726-D0BA-4451-8FC6-349FC76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76B-0614-4AA1-8258-58FCBB1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DD7-8FC1-46A1-8473-A3C77B2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DED-8D1A-4656-8A9B-8CA9F23D73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94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9036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9814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c6f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3541-6C63-4352-8904-E39771D7B937}" type="slidenum">
              <a:rPr b="0" lang="zh-CN" sz="1200" spc="-1" strike="noStrike">
                <a:solidFill>
                  <a:srgbClr val="6c6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F7C7-22F7-4D5B-860D-7D32936148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1280" y="1486080"/>
            <a:ext cx="43927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一个梦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唤醒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71280" y="4005000"/>
            <a:ext cx="36594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8550"/>
                </a:solidFill>
                <a:latin typeface="楷体_GB2312"/>
                <a:ea typeface="楷体_GB2312"/>
              </a:rPr>
              <a:t>棠外附小  冯文</a:t>
            </a:r>
            <a:endParaRPr b="0" lang="en-US" sz="24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1440" y="117360"/>
            <a:ext cx="76309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无尽的梦</a:t>
            </a:r>
            <a:br>
              <a:rPr sz="2800"/>
            </a:b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</a:t>
            </a:r>
            <a:r>
              <a:rPr b="0" lang="zh-CN" sz="2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冯文</a:t>
            </a:r>
            <a:endParaRPr b="0" lang="en-US" sz="2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260360"/>
            <a:ext cx="82915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叶子的梦是一条小船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装满了它的奇思妙想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小溪推着它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鱼儿呵护它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飘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想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飘到遥远的地方</a:t>
            </a:r>
            <a:r>
              <a:rPr b="0" lang="en-US" sz="28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幼圆"/>
                <a:ea typeface="楷体"/>
              </a:rPr>
              <a:t>合作创编儿童诗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480" y="1026720"/>
            <a:ext cx="8040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835360" y="130320"/>
            <a:ext cx="41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幼圆"/>
                <a:ea typeface="楷体"/>
              </a:rPr>
              <a:t>实现诗人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480" y="1375920"/>
            <a:ext cx="6340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385c"/>
                </a:solidFill>
                <a:latin typeface="幼圆"/>
              </a:rPr>
              <a:t>以“梦”为主题写一首儿童诗：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2639880"/>
            <a:ext cx="5365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语言凝练，语句优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格式正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书写美观、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1.倒映的彩色蜡笔画~雕塑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453360"/>
            <a:ext cx="360360" cy="50472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504720"/>
              <a:gd name="textAreaBottom" fmla="*/ 48240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50" y="28894"/>
                </a:lnTo>
                <a:lnTo>
                  <a:pt x="20250" y="135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350" y="28894"/>
                </a:lnTo>
                <a:lnTo>
                  <a:pt x="20250" y="2889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4"/>
                </a:lnTo>
                <a:close/>
              </a:path>
              <a:path fill="darken" w="21600" h="30244">
                <a:moveTo>
                  <a:pt x="14318" y="15122"/>
                </a:moveTo>
                <a:lnTo>
                  <a:pt x="3756" y="22166"/>
                </a:lnTo>
                <a:lnTo>
                  <a:pt x="3756" y="8078"/>
                </a:lnTo>
                <a:close/>
              </a:path>
              <a:path fill="darken" w="21600" h="30244">
                <a:moveTo>
                  <a:pt x="16173" y="8078"/>
                </a:moveTo>
                <a:lnTo>
                  <a:pt x="16173" y="22166"/>
                </a:lnTo>
                <a:lnTo>
                  <a:pt x="17844" y="22166"/>
                </a:lnTo>
                <a:lnTo>
                  <a:pt x="17844" y="8078"/>
                </a:lnTo>
                <a:close/>
              </a:path>
            </a:pathLst>
          </a:custGeom>
          <a:solidFill>
            <a:srgbClr val="f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7274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-88920"/>
            <a:ext cx="9144000" cy="6959520"/>
          </a:xfrm>
          <a:prstGeom prst="rect">
            <a:avLst/>
          </a:prstGeom>
          <a:solidFill>
            <a:srgbClr val="e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4"/>
          <p:cNvSpPr/>
          <p:nvPr/>
        </p:nvSpPr>
        <p:spPr>
          <a:xfrm rot="9523800">
            <a:off x="381312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1927080" y="313200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THANKS TO 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1927080" y="370188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谢谢大家聆听</a:t>
            </a: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213660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40687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436572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466236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22"/>
          <p:cNvSpPr/>
          <p:nvPr/>
        </p:nvSpPr>
        <p:spPr>
          <a:xfrm>
            <a:off x="49579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3860640" y="1079640"/>
            <a:ext cx="142272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74280" y="333360"/>
            <a:ext cx="729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段想象惊艳另一段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>
            <a:off x="7588080" y="249228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梦唤醒另一个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29" name="Picture 4" descr="u=4233926744,4122306700&amp;fm=21&amp;gp=0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98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8122143538233_1"/>
          <p:cNvPicPr/>
          <p:nvPr/>
        </p:nvPicPr>
        <p:blipFill>
          <a:blip r:embed="rId2"/>
          <a:stretch/>
        </p:blipFill>
        <p:spPr>
          <a:xfrm>
            <a:off x="4068720" y="5229360"/>
            <a:ext cx="1906560" cy="18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608733_131207080000_2"/>
          <p:cNvPicPr/>
          <p:nvPr/>
        </p:nvPicPr>
        <p:blipFill>
          <a:blip r:embed="rId3"/>
          <a:stretch/>
        </p:blipFill>
        <p:spPr>
          <a:xfrm>
            <a:off x="971640" y="5373720"/>
            <a:ext cx="12952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635280" y="24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线条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32N9B05H0-25052"/>
          <p:cNvPicPr/>
          <p:nvPr/>
        </p:nvPicPr>
        <p:blipFill>
          <a:blip r:embed="rId4"/>
          <a:stretch/>
        </p:blipFill>
        <p:spPr>
          <a:xfrm>
            <a:off x="6661080" y="4005360"/>
            <a:ext cx="2374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楷体_GB2312"/>
                <a:ea typeface="楷体_GB2312"/>
              </a:rPr>
              <a:t>一个梦唤醒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63640" y="1844280"/>
            <a:ext cx="2808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谁？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想象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40" name="Picture 4" descr="a0001673570"/>
          <p:cNvPicPr/>
          <p:nvPr/>
        </p:nvPicPr>
        <p:blipFill>
          <a:blip r:embed="rId1"/>
          <a:stretch/>
        </p:blipFill>
        <p:spPr>
          <a:xfrm>
            <a:off x="34920" y="-98280"/>
            <a:ext cx="571644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300000342079125249730752658"/>
          <p:cNvPicPr/>
          <p:nvPr/>
        </p:nvPicPr>
        <p:blipFill>
          <a:blip r:embed="rId2"/>
          <a:stretch/>
        </p:blipFill>
        <p:spPr>
          <a:xfrm>
            <a:off x="5651640" y="2781360"/>
            <a:ext cx="2952720" cy="338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12000" y="2205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谢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弗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0160" y="-385920"/>
            <a:ext cx="784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冰冻的梦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谢尔</a:t>
            </a:r>
            <a:r>
              <a:rPr b="1" lang="zh-CN" sz="3200" spc="-1" strike="noStrike">
                <a:solidFill>
                  <a:srgbClr val="940422"/>
                </a:solidFill>
                <a:latin typeface="楷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希尔弗斯坦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 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656880" y="18399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要把昨天我做的梦，拿到冰箱里冷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到遥远的一天，我变成了白发苍苍的老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就把这个可爱的美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拿出来解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然后把它煮沸，坐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浸暖冰冷的双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合理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1080" y="1057320"/>
            <a:ext cx="206388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梦</a:t>
            </a:r>
            <a:endParaRPr b="0" lang="en-US" sz="4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411280" y="2421000"/>
            <a:ext cx="5400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幼圆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076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253836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的梦是调皮的音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73400"/>
            <a:ext cx="58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叶子的梦是一条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13413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18:08Z</dcterms:created>
  <dc:creator>Administrator</dc:creator>
  <dc:description/>
  <dc:language>en-US</dc:language>
  <cp:lastModifiedBy>tw</cp:lastModifiedBy>
  <dcterms:modified xsi:type="dcterms:W3CDTF">2015-10-19T17:15:10Z</dcterms:modified>
  <cp:revision>10</cp:revision>
  <dc:subject/>
  <dc:title>一个梦 唤醒 另一个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